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F45-190D-4DBA-9ADF-4FABBF1E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09A-0F4F-4355-BF94-64FAFA1C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511-A116-488D-BABC-3D3F3122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28D-E1F1-40EA-8C26-74D4B320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63B4-240D-483A-AF68-96AB7745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8FBC-EE9C-4723-AC26-BA544A5D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9A0D-AAD6-4887-9187-A10438DE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3962-15C9-481C-B099-672A17F0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A6CF-47EF-427E-A378-5DEA4A65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1098-7DBE-40EB-A7B3-E29B4005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8361-E978-46EB-846C-C201F6C5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698-10A6-40C1-BEC7-20D6AE17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C89E-238F-47DE-B462-C37873E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6B74-B94F-4908-9FF1-950B19A9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D12C-7CBB-473A-BCAC-9451FA45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ADCF-4599-438A-900E-146E72BE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7272-1AE9-4A18-8A39-F0D6D7BA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0AF-8442-4455-9B48-C898B2EE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F7D-9E4F-4032-9F57-C9BAA246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76C-6CBE-47BE-A30A-91A49F9E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3B0-A22A-4A69-9CFF-6AF50D42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D28-4F0D-43AF-BC77-730F04B5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E79-E5FF-4A51-8D89-52D532BA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B40-D925-4DD4-9BCA-1DA4F58B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ED7D-39DB-41E9-AAE5-4B5FCEC3D5B6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E4E4-2419-4685-A02A-C1244C3F5510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rmup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re three negative effects of Europe colonizing Af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ad to Freed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hting for Europe WW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wame Nkrumah – Ghana 19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2857680" cy="4305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53080" y="4876920"/>
            <a:ext cx="1549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0 – Most African Territories had thrown off British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nic/Religious Figh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47640" cy="272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8862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ARTHIED IN SOUTH AF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art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la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 – Nelson Mand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bishop Desmond Tu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2851200" cy="312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016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 Section 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and Life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ly Gr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etter San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etter Medical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vercrow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44956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s L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9880" y="457200"/>
            <a:ext cx="5058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lth C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quitoes and Tsetse F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724280" y="838080"/>
          <a:ext cx="3770280" cy="5790960"/>
        </p:xfrm>
        <a:graphic>
          <a:graphicData uri="http://schemas.openxmlformats.org/drawingml/2006/table">
            <a:tbl>
              <a:tblPr/>
              <a:tblGrid>
                <a:gridCol w="942840"/>
                <a:gridCol w="943200"/>
                <a:gridCol w="941040"/>
                <a:gridCol w="943200"/>
              </a:tblGrid>
              <a:tr h="304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nited Stat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ngol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otswa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te D'Ivoi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entral African Republ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amb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tes of P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3333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ural vs. Urb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stence f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and manufacturing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standard of l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495680" cy="291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562720" y="4629240"/>
            <a:ext cx="3352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n Family Lif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ed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99172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and Culture of Africa South of the Sah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arly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ter-gathe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sh(Sud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ld, Ivory, I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um(Ethiop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, Christ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Zimbab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lver, Gold, Iv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543480" cy="2421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95680" y="3548160"/>
            <a:ext cx="45086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ding Empi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d 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sa Musa, Timbu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h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00760" y="3705120"/>
            <a:ext cx="41432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lave Tra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s enslaved Af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abs enslaved Africans – 800 A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s Arr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ns,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Slaves to American Colo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8800" y="4724280"/>
            <a:ext cx="5715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31468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uropean Rule / Colo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5120" y="2195640"/>
            <a:ext cx="54482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uropean Ru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Weapons =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Africans mine Gold, Diamonds, Rubber and other Natur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10440" y="4000680"/>
            <a:ext cx="193356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8195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8:06:07Z</dcterms:created>
  <dc:creator> John Doe</dc:creator>
  <dc:description/>
  <dc:language>en-US</dc:language>
  <cp:lastModifiedBy> John Doe</cp:lastModifiedBy>
  <dcterms:modified xsi:type="dcterms:W3CDTF">2009-09-09T15:49:54Z</dcterms:modified>
  <cp:revision>8</cp:revision>
  <dc:subject/>
  <dc:title>Chapter 8 </dc:title>
</cp:coreProperties>
</file>